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AAA-EA17-4F7E-8DCB-4E72798A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5A0-4E7F-463E-B9EC-85A54414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F6F-0401-43AA-A629-A43F69E3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EF2-21F2-4570-B79F-CA761B4A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5A40-B62B-4EF4-9C5A-213B8CDE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5D2E-916A-4615-9677-7148A2AF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A609-56D4-4B4E-9DDA-C61838B4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34FD-303A-4202-9FEF-5464DECD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3BC5-193E-496C-A180-0804951E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4587-CA37-4208-A98B-4953FC8B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89FD-EA33-4CB3-A06D-900EF692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FF3-13F1-4EF3-A32C-B4B61D39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2074-BAD2-4063-8902-B15E857A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82DB-1764-4497-ADBE-EFCE4B1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910E-C93F-41BD-8A28-64358A86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263A-A301-4DBC-A47F-44AADB4E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FF21-0F97-442C-9D5B-E6F2A18A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BA4-DB58-4831-A10D-2CF0111D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F4F-351E-4526-B8BA-6A9DFC19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1A4-1201-4853-B88C-A2A108F1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EBE-BD66-47FB-A75F-AA4C8F96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0E5-9610-406C-8040-28A5BF0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331-355E-4CA7-8A36-029F8817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29C-7474-4728-89DE-4EF9EDA8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0721-8891-4879-9C17-0B85A89A69D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AA61-8158-4113-B1C2-B86DFBB966E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mericancivilwar.com/getty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eefoto.com/images/11/47/11_47_1---United-States-Flag_web.jpg&amp;imgrefurl=http://www.freefoto.com/preview/11-47-1%3Fffid%3D11-47-1&amp;usg=__goQUKfqSkfuPwDWE7j9oDZpMcl8=&amp;h=400&amp;w=600&amp;sz=239&amp;hl=en&amp;start=4&amp;tbnid=Ow4t5AoxPbUgbM:&amp;tbnh=90&amp;tbnw=135&amp;prev=/images%3Fq%3Dunited%2Bstates%2Bflag%26gbv%3D2%26hl%3Den%26safe%3Dactiv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ff"/>
                </a:solidFill>
                <a:latin typeface="Arial"/>
              </a:rPr>
              <a:t>Battle of Gettysbur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Verdana"/>
              </a:rPr>
              <a:t>By: Ellie Jacobs and Daniel Trum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Verdana"/>
              </a:rPr>
              <a:t>Confederate retreated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Verdana"/>
              </a:rPr>
              <a:t>The union won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Verdana"/>
              </a:rPr>
              <a:t>Gettysburg was one of the most largest and most crucial battles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www.sonofthesouth.net/leefoundation/civil-war/1863/august/battle-gettysburg.jp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americancivilwar.com/getty.ht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ttp://www.visit-gettysburg.com/images/day-1-battle-lines.jp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teresting facts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July 1st, 186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Battle lasted three day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 Gettysburg address came from this battl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 confederate had a total of 75,000 men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Verdana"/>
              </a:rPr>
              <a:t>The union had a total of 90,000 men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bert E. Lee decided to take war nor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so wanted attention at Philadelphia, Baltimore, and Washingt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Gettysburg-July 1, 1863"/>
          <p:cNvPicPr/>
          <p:nvPr/>
        </p:nvPicPr>
        <p:blipFill>
          <a:blip r:embed="rId1"/>
          <a:stretch/>
        </p:blipFill>
        <p:spPr>
          <a:xfrm>
            <a:off x="5257800" y="1295280"/>
            <a:ext cx="3309840" cy="4915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y 1 continu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federate troops attacked union Calv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on pushed confederates ba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prevailed until afternoon when war confederates ca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uly 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attle lines moved two ac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ames Longstreet (confederate) broke through Sickle’s l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. S. Ewells (Union) took over East Cemetery hill and Culp’s hi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onfederates were very close to taking over the unions supply train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Gettysburg-July 2, 1863"/>
          <p:cNvPicPr/>
          <p:nvPr/>
        </p:nvPicPr>
        <p:blipFill>
          <a:blip r:embed="rId1"/>
          <a:stretch/>
        </p:blipFill>
        <p:spPr>
          <a:xfrm>
            <a:off x="5181480" y="1600200"/>
            <a:ext cx="313380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ly 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bert Lee tried to soften Union li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rge E. Pickett used 15,000 confederate troops to try and assault the un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Gettysburg-July 3, 1863"/>
          <p:cNvPicPr/>
          <p:nvPr/>
        </p:nvPicPr>
        <p:blipFill>
          <a:blip r:embed="rId1"/>
          <a:stretch/>
        </p:blipFill>
        <p:spPr>
          <a:xfrm>
            <a:off x="5257800" y="1523880"/>
            <a:ext cx="3027240" cy="4610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ay 3 continu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50 minutes 10,000 became casualties from the attack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failed to break through union lin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re then 66% of general pickett's men die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1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Union Casualti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There were 3,155 kille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4,530 wounde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5,365 missing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27% of army were killed, wounded, or missing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onfederate Casualtie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There were 2,600-4,500 kille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12,800 wounde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5,250 missing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Verdana"/>
              </a:rPr>
              <a:t>30-34% of the army were killed, wounded, or missing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7:02Z</dcterms:created>
  <dc:creator>danielmtrump</dc:creator>
  <dc:description/>
  <dc:language>en-US</dc:language>
  <cp:lastModifiedBy>danielmtrump</cp:lastModifiedBy>
  <dcterms:modified xsi:type="dcterms:W3CDTF">2009-03-20T12:11:34Z</dcterms:modified>
  <cp:revision>9</cp:revision>
  <dc:subject/>
  <dc:title>Battle of Gettysburg</dc:title>
</cp:coreProperties>
</file>